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06CFB-8F4E-4F9D-A6FC-C2482B6B8A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49BDF-C17E-4E5B-AC52-C3D36F908F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5266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8450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8440" y="3879720"/>
            <a:ext cx="8450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5266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8440" y="387972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8520" y="387972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5266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5760" y="132408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3080" y="132408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8440" y="387972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5760" y="387972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3080" y="387972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5266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8440" y="1324080"/>
            <a:ext cx="8450280" cy="48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5266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84502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5266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5266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8440" y="162000"/>
            <a:ext cx="852660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5266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8440" y="387972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5266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8520" y="387972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5266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8440" y="3879720"/>
            <a:ext cx="8450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5266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8440" y="1324080"/>
            <a:ext cx="84502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008000"/>
            <a:ext cx="91440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6520" y="6470640"/>
            <a:ext cx="2984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  <a:ea typeface="Arial"/>
              </a:rPr>
              <a:t>©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 2003 Pearson Education Canada Inc.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924680" y="6478560"/>
            <a:ext cx="971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Slide 19-</a:t>
            </a:r>
            <a:fld id="{CA0C8953-097A-4D6F-95F7-27EB45E42FC6}" type="slidenum">
              <a:rPr b="0" lang="en-US" sz="1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7280" y="1825560"/>
            <a:ext cx="7543800" cy="322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19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st Management: Quality, Time, and the Theory of Constraint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5266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Quality As A Competitive Weap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3352680"/>
            <a:ext cx="8382240" cy="2819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s of quality (COQ) are costs incurred to rectify the production of of low-quality produc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 categories of COQ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evention costs (design and process engineering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ppraisal costs (inspection costs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ternal failure costs (spoilage and rework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xternal failure costs (warranty repair work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55308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703 - 705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3520" y="1295280"/>
            <a:ext cx="2057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2000"/>
          </a:bodyPr>
          <a:p>
            <a:pPr marL="315360" indent="-315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ctual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15360" indent="-315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erformanc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352680" y="1295280"/>
            <a:ext cx="2286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2000"/>
          </a:bodyPr>
          <a:p>
            <a:pPr marL="315360" indent="-315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esig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15360" indent="-315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pecification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553080" y="1295280"/>
            <a:ext cx="2057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2000"/>
          </a:bodyPr>
          <a:p>
            <a:pPr marL="315360" indent="-315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ustomer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15360" indent="-315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atisfactio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029200" y="2209680"/>
            <a:ext cx="2057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2000"/>
          </a:bodyPr>
          <a:p>
            <a:pPr marL="315360" indent="-315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Quality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15360" indent="-315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f Desig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05120" y="2209680"/>
            <a:ext cx="2286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2000"/>
          </a:bodyPr>
          <a:p>
            <a:pPr marL="315360" indent="-315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formanc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15360" indent="-315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Quality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523880" y="2133720"/>
            <a:ext cx="0" cy="60948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95680" y="2133720"/>
            <a:ext cx="0" cy="60948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620120" y="2133720"/>
            <a:ext cx="0" cy="60948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523880" y="2590920"/>
            <a:ext cx="304920" cy="0"/>
          </a:xfrm>
          <a:prstGeom prst="line">
            <a:avLst/>
          </a:prstGeom>
          <a:ln w="38160">
            <a:solidFill>
              <a:srgbClr val="fafd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590920"/>
            <a:ext cx="381240" cy="0"/>
          </a:xfrm>
          <a:prstGeom prst="line">
            <a:avLst/>
          </a:prstGeom>
          <a:ln w="38160">
            <a:solidFill>
              <a:srgbClr val="fafd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2590920"/>
            <a:ext cx="381240" cy="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191120" y="2590920"/>
            <a:ext cx="304560" cy="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5266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thods to Analyze Quality Problem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8800" y="1371600"/>
            <a:ext cx="5631120" cy="190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tatistical quality control (SQC) or statistical process control (SPC) employ control charts to monitor successive observations at regular intervals of tim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371600"/>
            <a:ext cx="0" cy="1523880"/>
          </a:xfrm>
          <a:prstGeom prst="line">
            <a:avLst/>
          </a:prstGeom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00800" y="2895480"/>
            <a:ext cx="2057400" cy="0"/>
          </a:xfrm>
          <a:prstGeom prst="line">
            <a:avLst/>
          </a:prstGeom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400800" y="2133720"/>
            <a:ext cx="2057400" cy="0"/>
          </a:xfrm>
          <a:prstGeom prst="line">
            <a:avLst/>
          </a:prstGeom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400800" y="1752480"/>
            <a:ext cx="2057400" cy="0"/>
          </a:xfrm>
          <a:prstGeom prst="line">
            <a:avLst/>
          </a:prstGeom>
          <a:ln w="1908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400800" y="2514600"/>
            <a:ext cx="2057400" cy="0"/>
          </a:xfrm>
          <a:prstGeom prst="line">
            <a:avLst/>
          </a:prstGeom>
          <a:ln w="1908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705720" y="1905120"/>
            <a:ext cx="75960" cy="7596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0" y="2209680"/>
            <a:ext cx="76320" cy="7632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086600" y="2362320"/>
            <a:ext cx="76320" cy="7596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315200" y="2209680"/>
            <a:ext cx="76320" cy="7632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543800" y="1981080"/>
            <a:ext cx="76320" cy="7632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96080" y="1752480"/>
            <a:ext cx="76320" cy="7632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848720" y="1523880"/>
            <a:ext cx="75960" cy="7632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077320" y="1295280"/>
            <a:ext cx="75960" cy="7632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55308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707 - 709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380880" y="3505320"/>
            <a:ext cx="8077320" cy="990360"/>
            <a:chOff x="380880" y="3505320"/>
            <a:chExt cx="8077320" cy="990360"/>
          </a:xfrm>
        </p:grpSpPr>
        <p:sp>
          <p:nvSpPr>
            <p:cNvPr id="81" name=""/>
            <p:cNvSpPr/>
            <p:nvPr/>
          </p:nvSpPr>
          <p:spPr>
            <a:xfrm>
              <a:off x="6629400" y="3657600"/>
              <a:ext cx="228600" cy="83808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086600" y="3809880"/>
              <a:ext cx="228600" cy="68580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543800" y="3886200"/>
              <a:ext cx="228600" cy="60948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001000" y="4191120"/>
              <a:ext cx="228600" cy="30456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00800" y="3505320"/>
              <a:ext cx="0" cy="99036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400800" y="4495680"/>
              <a:ext cx="205740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80880" y="3581280"/>
              <a:ext cx="563112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fafd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Pareto diagrams indicates the frequency of failures (defects)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380880" y="4724280"/>
            <a:ext cx="8458200" cy="1600200"/>
            <a:chOff x="380880" y="4724280"/>
            <a:chExt cx="8458200" cy="1600200"/>
          </a:xfrm>
        </p:grpSpPr>
        <p:sp>
          <p:nvSpPr>
            <p:cNvPr id="89" name=""/>
            <p:cNvSpPr/>
            <p:nvPr/>
          </p:nvSpPr>
          <p:spPr>
            <a:xfrm>
              <a:off x="6248520" y="5029200"/>
              <a:ext cx="68580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400800" y="5257800"/>
              <a:ext cx="68580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553080" y="5486400"/>
              <a:ext cx="68580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324480" y="5715000"/>
              <a:ext cx="68580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172200" y="5943600"/>
              <a:ext cx="68580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543800" y="5486400"/>
              <a:ext cx="68580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391520" y="5105520"/>
              <a:ext cx="68580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391520" y="5867280"/>
              <a:ext cx="68580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934320" y="4876920"/>
              <a:ext cx="457200" cy="60948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6934320" y="5486400"/>
              <a:ext cx="457200" cy="60948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1000" y="4876920"/>
              <a:ext cx="457200" cy="60948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8001000" y="5486400"/>
              <a:ext cx="457200" cy="60948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534520" y="5486400"/>
              <a:ext cx="30456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7543800" y="5562360"/>
              <a:ext cx="228600" cy="7596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43800" y="5334120"/>
              <a:ext cx="228600" cy="7596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80880" y="4724280"/>
              <a:ext cx="563112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fafd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Cause-and-Effect diagrams identifies potential causes of failures or defects such as human error or component failure 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5266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nfinancial Measures of Qualit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8800" y="1219320"/>
            <a:ext cx="82980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ven if a product is defect free and meets conformance quality, it still must satisfy customer need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sider total customer satisfaction including: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eatures that provide fair valu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elivery when promis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elivery a defect-free produc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void early failur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nsure that product will not fail excessively in us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cus attention on costs of poor qualit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Use financial measures to evaluate savings pla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Use nonfinancial measures to monitor succes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4771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713 - 714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5266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valuating Quality Performan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8440" y="1294920"/>
            <a:ext cx="8450280" cy="489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dvantages of Cost of Quality (COQ) Measuremen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cuses attention on how costly poor quality can b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ows for  comparison of different programs and setting prioriti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vides a common basis for measuring qualit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afd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dvantages of nonfinancial measures of qualit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asy to quantify and understan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rect attention at the precise problem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vide intermediate feedback on achievemen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vide useful long-run indicators of performa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4008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714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5266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ime As A Competitive Weap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8440" y="1294920"/>
            <a:ext cx="8450280" cy="489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ime is a key variable in competit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oing things faster helps increase revenues and decrease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nk of time in terms of: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ustomer response time (order receipt to delivery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n-Time Performance:  delivered on promised dat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 time driver is any factor where change in the factor causes a change in the speed of the activit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Uncertainty about when the customer will orde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Limited capacity and bottleneck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4008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714 - 716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5266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ory of Constrain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8440" y="1295280"/>
            <a:ext cx="845028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eory of Constraints (TOC) describes  methods of maximizing operating income when faced with a bottleneck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easuremen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roughput contribution:  Sales – direct material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vestments (inventory):  Material inventory, work-in-process, finished goods, R&amp;D, and cost of equipment and building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perating costs: all operating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bjective of TOC is to increase throughput contribution while decreasing investments and operating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4008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719 - 720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5266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ory of Constraints (Continued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8440" y="1142640"/>
            <a:ext cx="845028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agement of Bottleneck Resourc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cognize that the bottleneck resource determines throughput contribut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arch and find the bottleneck resour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Keep the bottleneck operation busy and subordinate all nonbottleneck resources to the bottleneck resour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ake action to increase bottleneck efficiency and capacit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4008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720 - 722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88800" y="4952880"/>
            <a:ext cx="8450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xamples of TOC Actions:  eliminate idle time at the bottleneck, eliminate production of nonessential products, reduce setup time at bottleneck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7T00:30:40Z</dcterms:created>
  <dc:creator>User</dc:creator>
  <dc:description/>
  <dc:language>en-US</dc:language>
  <cp:lastModifiedBy>John Moore</cp:lastModifiedBy>
  <cp:lastPrinted>1999-06-07T01:37:54Z</cp:lastPrinted>
  <dcterms:modified xsi:type="dcterms:W3CDTF">2003-03-22T13:22:39Z</dcterms:modified>
  <cp:revision>20</cp:revision>
  <dc:subject/>
  <dc:title>Quality As A Competitive Weapon</dc:title>
</cp:coreProperties>
</file>